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8.png" ContentType="image/png"/>
  <Override PartName="/ppt/media/image17.png" ContentType="image/png"/>
  <Override PartName="/ppt/media/image20.wmf" ContentType="image/x-wmf"/>
  <Override PartName="/ppt/media/image19.wmf" ContentType="image/x-wmf"/>
  <Override PartName="/ppt/media/image21.png" ContentType="image/png"/>
  <Override PartName="/ppt/media/image22.png" ContentType="image/png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4671-983C-4F92-B651-026AE2BF5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cks this specialized mechanism, it can be induced to take up small pieces of DNA if cultured in a medium with a relatively high concentration of calcium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iotechnology, this technique has been used to introduce foreign DNA int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-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every ~2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100 million) colony overn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body that can put more energy to growth &amp; reproduction takes over the toi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bacterium, locked into the genome that it has inherited, can cope with environmental fluctuations by exerting metabolic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cells vary the number of specific enzyme molecules by regulating gen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cells adjust the activity of enzymes already present (for example, by feedback inhibi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ome = all the DNA of an organis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0 times more D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10 times more g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introns, spacers, ineffici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8138-994C-4408-BBA2-A01DA06B6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8517-BECD-4AE8-91C2-C4B70D5E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7CB5-BC16-47BE-90A1-2FE569D0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2D48-DF64-4466-8A7A-5A9F4B314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2397-F4A0-4077-9055-8013EFF8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F888-16C6-4E2D-91F9-AC2031D8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94B8-CD51-4E2A-BADE-81C5C228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E2BA-7F17-4EE7-8A9F-00865258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4E32-4BD1-4910-9508-11A7260C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5B5A-4684-45E0-BE00-4E8F0A30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57CC-55A6-4196-88EA-7CC85AAF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66AB-0B15-46C7-87D9-87595516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C4F7-0681-475C-8EE3-4F1884CBBD83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Users/kfoglia/Kim&apos;s%20NEW%20WORK/Half%20Hollow%20Hills/AP%20Bio/MOVIES/bacteria_resistance.mov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ers/kfoglia/Kim&apos;s%20NEW%20WORK/Half%20Hollow%20Hills/AP%20Bio/MOVIES/bacteria_intro.mov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8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27040" y="35506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Genetic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457200"/>
            <a:ext cx="3173400" cy="2494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D2A2-E513-4D94-B095-D748BC807756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ontaneous mu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pontaneous mutation is a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ignificant source of variation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rapidly reproducing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speci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Exampl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: E. coli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uman colon (large intestines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2 x 1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billion) new E. coli each day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ontaneous mutation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r 1 gene, only ~1 mutation in 10 million replication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ach day, ~2,000 bacteria develop mutation in that gen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but consider all 4300 genes, then: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4300 x 2000 = 9 million mutations per day per human host!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971800" cy="2066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95880" y="2286000"/>
            <a:ext cx="3048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5297-24C1-4241-A449-4D9A3883C4F0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nsform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are opportunis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ick up naked foreign DNA wherever it may be hanging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ave surface transport proteins that are specialized for the uptake of naked DNA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mport bits of chromosomes from other bacteri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corporate the DNA bits into their own chromoso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xpress new gen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 of recombin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B6DC-BFDE-44B8-A22A-69B4854F1B21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wapping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95280" y="2449440"/>
            <a:ext cx="7086600" cy="4408560"/>
            <a:chOff x="1295280" y="2449440"/>
            <a:chExt cx="7086600" cy="440856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rcRect l="0" t="0" r="0" b="3398"/>
            <a:stretch/>
          </p:blipFill>
          <p:spPr>
            <a:xfrm>
              <a:off x="1295280" y="2449440"/>
              <a:ext cx="7086600" cy="44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655360" y="5599080"/>
              <a:ext cx="930240" cy="5011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93080" y="5599080"/>
              <a:ext cx="930600" cy="50112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8960" y="5670720"/>
              <a:ext cx="286200" cy="716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4040" y="5813640"/>
              <a:ext cx="286200" cy="716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75160" y="5742360"/>
              <a:ext cx="286200" cy="712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60600" y="5885640"/>
              <a:ext cx="286200" cy="716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netic recombination by trading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971080" y="1980360"/>
            <a:ext cx="25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05520" y="1980360"/>
            <a:ext cx="25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391520" y="1980360"/>
            <a:ext cx="25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3581280"/>
            <a:ext cx="7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rg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rp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3120" y="3581280"/>
            <a:ext cx="66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rg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p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5520" y="5715000"/>
            <a:ext cx="113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inim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E1D9-4BAD-4C27-9384-AC65D546F40A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sm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lasmid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supplemental circles of D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5000 - 20,000 base pai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lf-replicating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rry extra gen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2-30 gen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n be exchanged between bacte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bacterial sex!!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apid evolution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antibiotic resistanc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n be imported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rom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410080" y="4952880"/>
            <a:ext cx="3505320" cy="1676520"/>
            <a:chOff x="5410080" y="4952880"/>
            <a:chExt cx="3505320" cy="1676520"/>
          </a:xfrm>
        </p:grpSpPr>
        <p:sp>
          <p:nvSpPr>
            <p:cNvPr id="176" name=""/>
            <p:cNvSpPr/>
            <p:nvPr/>
          </p:nvSpPr>
          <p:spPr>
            <a:xfrm>
              <a:off x="7848720" y="5181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10080" y="4952880"/>
              <a:ext cx="3505320" cy="1676520"/>
            </a:xfrm>
            <a:prstGeom prst="roundRect">
              <a:avLst>
                <a:gd name="adj" fmla="val 16667"/>
              </a:avLst>
            </a:prstGeom>
            <a:solidFill>
              <a:srgbClr val="ecd882"/>
            </a:solidFill>
            <a:ln w="76320">
              <a:solidFill>
                <a:srgbClr val="ff4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866560" y="5573160"/>
              <a:ext cx="1295640" cy="750600"/>
            </a:xfrm>
            <a:custGeom>
              <a:avLst/>
              <a:gdLst/>
              <a:ahLst/>
              <a:rect l="l" t="t" r="r" b="b"/>
              <a:pathLst>
                <a:path w="2373" h="1375">
                  <a:moveTo>
                    <a:pt x="759" y="77"/>
                  </a:moveTo>
                  <a:cubicBezTo>
                    <a:pt x="596" y="71"/>
                    <a:pt x="471" y="61"/>
                    <a:pt x="310" y="77"/>
                  </a:cubicBezTo>
                  <a:cubicBezTo>
                    <a:pt x="286" y="79"/>
                    <a:pt x="267" y="96"/>
                    <a:pt x="245" y="102"/>
                  </a:cubicBezTo>
                  <a:cubicBezTo>
                    <a:pt x="223" y="107"/>
                    <a:pt x="179" y="118"/>
                    <a:pt x="179" y="118"/>
                  </a:cubicBezTo>
                  <a:cubicBezTo>
                    <a:pt x="157" y="183"/>
                    <a:pt x="189" y="108"/>
                    <a:pt x="147" y="151"/>
                  </a:cubicBezTo>
                  <a:cubicBezTo>
                    <a:pt x="123" y="174"/>
                    <a:pt x="105" y="203"/>
                    <a:pt x="90" y="233"/>
                  </a:cubicBezTo>
                  <a:cubicBezTo>
                    <a:pt x="76" y="258"/>
                    <a:pt x="59" y="286"/>
                    <a:pt x="49" y="314"/>
                  </a:cubicBezTo>
                  <a:cubicBezTo>
                    <a:pt x="27" y="372"/>
                    <a:pt x="18" y="434"/>
                    <a:pt x="0" y="494"/>
                  </a:cubicBezTo>
                  <a:cubicBezTo>
                    <a:pt x="2" y="540"/>
                    <a:pt x="3" y="586"/>
                    <a:pt x="8" y="633"/>
                  </a:cubicBezTo>
                  <a:cubicBezTo>
                    <a:pt x="15" y="708"/>
                    <a:pt x="64" y="784"/>
                    <a:pt x="106" y="845"/>
                  </a:cubicBezTo>
                  <a:cubicBezTo>
                    <a:pt x="133" y="884"/>
                    <a:pt x="158" y="928"/>
                    <a:pt x="188" y="967"/>
                  </a:cubicBezTo>
                  <a:cubicBezTo>
                    <a:pt x="273" y="1077"/>
                    <a:pt x="385" y="1156"/>
                    <a:pt x="498" y="1237"/>
                  </a:cubicBezTo>
                  <a:cubicBezTo>
                    <a:pt x="603" y="1312"/>
                    <a:pt x="453" y="1218"/>
                    <a:pt x="620" y="1302"/>
                  </a:cubicBezTo>
                  <a:cubicBezTo>
                    <a:pt x="689" y="1336"/>
                    <a:pt x="736" y="1363"/>
                    <a:pt x="816" y="1375"/>
                  </a:cubicBezTo>
                  <a:cubicBezTo>
                    <a:pt x="865" y="1372"/>
                    <a:pt x="914" y="1375"/>
                    <a:pt x="963" y="1367"/>
                  </a:cubicBezTo>
                  <a:cubicBezTo>
                    <a:pt x="1010" y="1358"/>
                    <a:pt x="1064" y="1319"/>
                    <a:pt x="1110" y="1302"/>
                  </a:cubicBezTo>
                  <a:cubicBezTo>
                    <a:pt x="1208" y="1263"/>
                    <a:pt x="1322" y="1223"/>
                    <a:pt x="1428" y="1212"/>
                  </a:cubicBezTo>
                  <a:cubicBezTo>
                    <a:pt x="1641" y="1188"/>
                    <a:pt x="1835" y="1183"/>
                    <a:pt x="2057" y="1179"/>
                  </a:cubicBezTo>
                  <a:cubicBezTo>
                    <a:pt x="2087" y="1164"/>
                    <a:pt x="2115" y="1157"/>
                    <a:pt x="2147" y="1147"/>
                  </a:cubicBezTo>
                  <a:cubicBezTo>
                    <a:pt x="2164" y="1134"/>
                    <a:pt x="2187" y="1128"/>
                    <a:pt x="2204" y="1114"/>
                  </a:cubicBezTo>
                  <a:cubicBezTo>
                    <a:pt x="2225" y="1095"/>
                    <a:pt x="2240" y="1068"/>
                    <a:pt x="2261" y="1049"/>
                  </a:cubicBezTo>
                  <a:cubicBezTo>
                    <a:pt x="2278" y="995"/>
                    <a:pt x="2254" y="1054"/>
                    <a:pt x="2302" y="992"/>
                  </a:cubicBezTo>
                  <a:cubicBezTo>
                    <a:pt x="2315" y="974"/>
                    <a:pt x="2321" y="953"/>
                    <a:pt x="2334" y="935"/>
                  </a:cubicBezTo>
                  <a:cubicBezTo>
                    <a:pt x="2343" y="901"/>
                    <a:pt x="2347" y="873"/>
                    <a:pt x="2367" y="845"/>
                  </a:cubicBezTo>
                  <a:cubicBezTo>
                    <a:pt x="2361" y="758"/>
                    <a:pt x="2373" y="731"/>
                    <a:pt x="2334" y="673"/>
                  </a:cubicBezTo>
                  <a:cubicBezTo>
                    <a:pt x="2320" y="631"/>
                    <a:pt x="2299" y="589"/>
                    <a:pt x="2269" y="559"/>
                  </a:cubicBezTo>
                  <a:cubicBezTo>
                    <a:pt x="2252" y="517"/>
                    <a:pt x="2237" y="504"/>
                    <a:pt x="2212" y="469"/>
                  </a:cubicBezTo>
                  <a:cubicBezTo>
                    <a:pt x="2189" y="401"/>
                    <a:pt x="2120" y="369"/>
                    <a:pt x="2073" y="322"/>
                  </a:cubicBezTo>
                  <a:cubicBezTo>
                    <a:pt x="2066" y="315"/>
                    <a:pt x="2064" y="304"/>
                    <a:pt x="2057" y="298"/>
                  </a:cubicBezTo>
                  <a:cubicBezTo>
                    <a:pt x="2047" y="290"/>
                    <a:pt x="2034" y="288"/>
                    <a:pt x="2024" y="282"/>
                  </a:cubicBezTo>
                  <a:cubicBezTo>
                    <a:pt x="1995" y="264"/>
                    <a:pt x="1972" y="238"/>
                    <a:pt x="1943" y="224"/>
                  </a:cubicBezTo>
                  <a:cubicBezTo>
                    <a:pt x="1877" y="190"/>
                    <a:pt x="1799" y="183"/>
                    <a:pt x="1730" y="167"/>
                  </a:cubicBezTo>
                  <a:cubicBezTo>
                    <a:pt x="1713" y="156"/>
                    <a:pt x="1694" y="149"/>
                    <a:pt x="1681" y="135"/>
                  </a:cubicBezTo>
                  <a:cubicBezTo>
                    <a:pt x="1669" y="122"/>
                    <a:pt x="1662" y="104"/>
                    <a:pt x="1649" y="94"/>
                  </a:cubicBezTo>
                  <a:cubicBezTo>
                    <a:pt x="1626" y="76"/>
                    <a:pt x="1594" y="81"/>
                    <a:pt x="1567" y="77"/>
                  </a:cubicBezTo>
                  <a:cubicBezTo>
                    <a:pt x="1516" y="0"/>
                    <a:pt x="1379" y="42"/>
                    <a:pt x="1314" y="45"/>
                  </a:cubicBezTo>
                  <a:cubicBezTo>
                    <a:pt x="1303" y="47"/>
                    <a:pt x="1291" y="48"/>
                    <a:pt x="1281" y="53"/>
                  </a:cubicBezTo>
                  <a:cubicBezTo>
                    <a:pt x="1272" y="56"/>
                    <a:pt x="1266" y="66"/>
                    <a:pt x="1257" y="69"/>
                  </a:cubicBezTo>
                  <a:cubicBezTo>
                    <a:pt x="1227" y="77"/>
                    <a:pt x="1196" y="77"/>
                    <a:pt x="1167" y="86"/>
                  </a:cubicBezTo>
                  <a:cubicBezTo>
                    <a:pt x="1031" y="78"/>
                    <a:pt x="894" y="62"/>
                    <a:pt x="759" y="77"/>
                  </a:cubicBezTo>
                  <a:close/>
                </a:path>
              </a:pathLst>
            </a:custGeom>
            <a:noFill/>
            <a:ln w="7632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53280" y="54100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59436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81680" y="51055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05920" y="6248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6080" y="54864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58200" y="51055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257800" y="4572000"/>
            <a:ext cx="15228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6477120"/>
            <a:ext cx="15228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6400800"/>
            <a:ext cx="15228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6248520"/>
            <a:ext cx="15228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4038480"/>
            <a:ext cx="152280" cy="15264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1523880"/>
            <a:ext cx="152280" cy="15264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58200" y="1295280"/>
            <a:ext cx="152280" cy="15264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3809880"/>
            <a:ext cx="152280" cy="15264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2971800"/>
            <a:ext cx="15264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2666880"/>
            <a:ext cx="152640" cy="15264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685800"/>
            <a:ext cx="15228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562720"/>
            <a:ext cx="152640" cy="152280"/>
          </a:xfrm>
          <a:prstGeom prst="ellipse">
            <a:avLst/>
          </a:prstGeom>
          <a:noFill/>
          <a:ln w="284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4125960" cy="2676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sm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4343400" cy="38484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6705720" y="533520"/>
            <a:ext cx="2154240" cy="3200400"/>
            <a:chOff x="6705720" y="533520"/>
            <a:chExt cx="2154240" cy="3200400"/>
          </a:xfrm>
        </p:grpSpPr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7585200" y="243864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705720" y="533520"/>
              <a:ext cx="2077920" cy="1214280"/>
            </a:xfrm>
            <a:prstGeom prst="wedgeEllipseCallout">
              <a:avLst>
                <a:gd name="adj1" fmla="val 5078"/>
                <a:gd name="adj2" fmla="val 118495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Comic Sans MS"/>
                </a:rPr>
                <a:t>This will be</a:t>
              </a:r>
              <a:br>
                <a:rPr sz="1800"/>
              </a:br>
              <a:r>
                <a:rPr b="1" lang="en-US" sz="1800" spc="-1" strike="noStrike">
                  <a:solidFill>
                    <a:srgbClr val="0f116a"/>
                  </a:solidFill>
                  <a:latin typeface="Comic Sans MS"/>
                </a:rPr>
                <a:t>important!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smids &amp; antibiotic resist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44920" y="1968480"/>
            <a:ext cx="4699080" cy="4737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istance is futile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recognized in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950s in Japa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acterial dysentery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ot responding to antibiotic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orldwide problem now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sistant genes are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n plasmids that are swapped between bacteri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0360" y="6247440"/>
            <a:ext cx="37101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Resistance in Bacteria vide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A39E-3DC0-45B9-A36B-CF87CFFDFF5C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3090960"/>
            <a:ext cx="3987720" cy="3690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iotechnology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202360" y="304920"/>
            <a:ext cx="3789360" cy="6400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5791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Used to insert new genes into bacteria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UC18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ngineered plasmid used in biotec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5545800"/>
            <a:ext cx="273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ntibiotic resistance gene on plasmid is used as a selective 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76CB-DE20-403D-BF85-F12FDBC0C965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ansduc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60240" y="1371600"/>
            <a:ext cx="8026560" cy="5334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8080" y="3505680"/>
            <a:ext cx="4267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age viruses carry bacterial genes from one host to anothe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8E47-01A2-4D98-B1E5-193F303A7FDA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jug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irect transfer of DNA between 2 bacterial cells that are temporarily joine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sults from presence of F plasmid with F facto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 for “fertility”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. coli “male” extends sex pilli, attaches to female bacteriu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ytoplasmic bridge allows transfer of DN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405320" y="4071960"/>
            <a:ext cx="3940200" cy="27399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17400" y="4067280"/>
            <a:ext cx="3556080" cy="2744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848A-FE94-4765-AEE4-9A5D570FDDEB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3871-3412-4A70-80C7-CBADE0148A48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bacterial genetic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ts an easy place to star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istor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e know more about i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ystems better understoo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impler geno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od model for control of ge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ild concepts from there to eukaryot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acterial genetic systems are exploited in biotechnolo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667240" cy="2308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3CEC-6690-41A8-B358-737AC827AE33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514600" y="3309480"/>
            <a:ext cx="5867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ulation of Gene Express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0" r="0" b="7919"/>
          <a:stretch/>
        </p:blipFill>
        <p:spPr>
          <a:xfrm>
            <a:off x="5181480" y="762120"/>
            <a:ext cx="3962520" cy="1438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52280" y="4800600"/>
            <a:ext cx="2133720" cy="1903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CD13-340D-4909-9256-E4B4567816F3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need to respond quickly to changes in their environm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f have enough of a product,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stop produ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waste of energy to produce mo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stop production of synthesis enzy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f find new food/energy source,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utilize it quickl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etabolism, growth,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?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start production of digestive enzym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1494-8425-44C1-9027-EB2757641455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62560" y="2057400"/>
            <a:ext cx="4681440" cy="47242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inder: Regulation of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eedback inhibi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t act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s an allosteric inhibitor of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zyme in tryptophan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2400" y="6125040"/>
            <a:ext cx="167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= inhibi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905120" y="5987520"/>
            <a:ext cx="380880" cy="642600"/>
            <a:chOff x="1905120" y="5987520"/>
            <a:chExt cx="380880" cy="642600"/>
          </a:xfrm>
        </p:grpSpPr>
        <p:sp>
          <p:nvSpPr>
            <p:cNvPr id="240" name=""/>
            <p:cNvSpPr/>
            <p:nvPr/>
          </p:nvSpPr>
          <p:spPr>
            <a:xfrm>
              <a:off x="1905120" y="61498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29240" y="598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572000" y="2209680"/>
            <a:ext cx="1143000" cy="68580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3124080"/>
            <a:ext cx="1143000" cy="358164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23080" y="6288120"/>
            <a:ext cx="1295280" cy="457200"/>
          </a:xfrm>
          <a:prstGeom prst="rect">
            <a:avLst/>
          </a:prstGeom>
          <a:solidFill>
            <a:srgbClr val="f1d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1235-5BFF-42EF-AB8E-773F35F9C19A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62560" y="2057400"/>
            <a:ext cx="4681440" cy="4724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other way to Regulate metabolis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0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ne regulation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lock transcription of genes for all enzymes in tryptophan pathwa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aves energy by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t wasting it on unnecessary protein synthesi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2400" y="6125040"/>
            <a:ext cx="167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= inhibi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5987520"/>
            <a:ext cx="380880" cy="642600"/>
            <a:chOff x="1905120" y="5987520"/>
            <a:chExt cx="380880" cy="642600"/>
          </a:xfrm>
        </p:grpSpPr>
        <p:sp>
          <p:nvSpPr>
            <p:cNvPr id="251" name=""/>
            <p:cNvSpPr/>
            <p:nvPr/>
          </p:nvSpPr>
          <p:spPr>
            <a:xfrm>
              <a:off x="1905120" y="6149880"/>
              <a:ext cx="380880" cy="3812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29240" y="598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EC1A-FF89-4F59-B964-33E78DFEF486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 regulation in bacter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rol of gene expression enables individual bacteria to adjust their metabolism to environmental chang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s vary amount of specific enzymes by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regulating gene transcrip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ur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es 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tur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enes off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x.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if you have enough tryptophan in your cell then you don’t need to make enzymes used to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buil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ryptopha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aste of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urn off genes which codes for enzy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295280" cy="1155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3F82-1B81-4708-9ADB-8213CC6C59FE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895480" y="5205240"/>
            <a:ext cx="5943600" cy="1576440"/>
            <a:chOff x="2895480" y="5205240"/>
            <a:chExt cx="5943600" cy="157644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rcRect l="0" t="0" r="0" b="39203"/>
            <a:stretch/>
          </p:blipFill>
          <p:spPr>
            <a:xfrm>
              <a:off x="2895480" y="5205240"/>
              <a:ext cx="594360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714640" y="6599160"/>
              <a:ext cx="2286000" cy="182520"/>
            </a:xfrm>
            <a:prstGeom prst="rect">
              <a:avLst/>
            </a:prstGeom>
            <a:solidFill>
              <a:srgbClr val="f2d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8880" y="6446520"/>
              <a:ext cx="838080" cy="182520"/>
            </a:xfrm>
            <a:prstGeom prst="rect">
              <a:avLst/>
            </a:prstGeom>
            <a:solidFill>
              <a:srgbClr val="f2d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1440" y="6095880"/>
              <a:ext cx="1447920" cy="685800"/>
            </a:xfrm>
            <a:prstGeom prst="rect">
              <a:avLst/>
            </a:prstGeom>
            <a:solidFill>
              <a:srgbClr val="f2d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o how can genes be turned off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rst step in protein producti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crip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op RNA polymerase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ressor prote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nds to DNA near promoter region blocking RNA polymer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inds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perato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site on DN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locks transcrip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D1CC-49EF-49AF-B395-62AA5A0AB1EE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0" r="0" b="18573"/>
          <a:stretch/>
        </p:blipFill>
        <p:spPr>
          <a:xfrm>
            <a:off x="1371600" y="4191120"/>
            <a:ext cx="7162920" cy="25444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s grouped together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peron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nes grouped together with related function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x.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enzymes in a synthesis pathway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moter = RNA polymerase binding sit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romoter controls transcription of all genes in oper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cribed as 1 unit &amp; a single mRNA is mad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perator = DNA binding site of regulator protein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63760" y="5908680"/>
            <a:ext cx="2422440" cy="826920"/>
          </a:xfrm>
          <a:prstGeom prst="rect">
            <a:avLst/>
          </a:prstGeom>
          <a:solidFill>
            <a:srgbClr val="f2d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5680" y="5218200"/>
            <a:ext cx="1752480" cy="826920"/>
          </a:xfrm>
          <a:prstGeom prst="rect">
            <a:avLst/>
          </a:prstGeom>
          <a:solidFill>
            <a:srgbClr val="f2d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16B4-DD80-40D1-BA13-1851BAAF995C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1837440" y="3611520"/>
            <a:ext cx="1312920" cy="1495080"/>
            <a:chOff x="1837440" y="3611520"/>
            <a:chExt cx="1312920" cy="1495080"/>
          </a:xfrm>
        </p:grpSpPr>
        <p:sp>
          <p:nvSpPr>
            <p:cNvPr id="273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37440" y="4677480"/>
              <a:ext cx="1312920" cy="429120"/>
            </a:xfrm>
            <a:prstGeom prst="rect">
              <a:avLst/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92240" y="3611520"/>
            <a:ext cx="1406160" cy="1495080"/>
            <a:chOff x="192240" y="3611520"/>
            <a:chExt cx="1406160" cy="1495080"/>
          </a:xfrm>
        </p:grpSpPr>
        <p:sp>
          <p:nvSpPr>
            <p:cNvPr id="276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2240" y="4677480"/>
              <a:ext cx="1406160" cy="429120"/>
            </a:xfrm>
            <a:prstGeom prst="rect">
              <a:avLst/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ressor protein 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mode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287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472760" y="3200400"/>
            <a:ext cx="1116360" cy="544680"/>
            <a:chOff x="1472760" y="3200400"/>
            <a:chExt cx="1116360" cy="544680"/>
          </a:xfrm>
        </p:grpSpPr>
        <p:sp>
          <p:nvSpPr>
            <p:cNvPr id="291" name=""/>
            <p:cNvSpPr/>
            <p:nvPr/>
          </p:nvSpPr>
          <p:spPr>
            <a:xfrm>
              <a:off x="1535040" y="3200400"/>
              <a:ext cx="99072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7276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260680" y="5551560"/>
            <a:ext cx="3268440" cy="544320"/>
            <a:chOff x="5260680" y="5551560"/>
            <a:chExt cx="3268440" cy="544320"/>
          </a:xfrm>
        </p:grpSpPr>
        <p:grpSp>
          <p:nvGrpSpPr>
            <p:cNvPr id="294" name=""/>
            <p:cNvGrpSpPr/>
            <p:nvPr/>
          </p:nvGrpSpPr>
          <p:grpSpPr>
            <a:xfrm>
              <a:off x="5260680" y="5551560"/>
              <a:ext cx="1116360" cy="544320"/>
              <a:chOff x="5260680" y="5551560"/>
              <a:chExt cx="111636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5322960" y="5551560"/>
                <a:ext cx="990720" cy="544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60680" y="565380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56960" y="563940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38120" y="137160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Oper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perator, promoter &amp; genes they contro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rve as a model for gene regulatio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309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62520" y="4267080"/>
            <a:ext cx="5105160" cy="7621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urns off gene by blocking RNA polymerase binding si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8DA2-0FA3-40EF-BDA6-E43241447DDC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7" presetSubtype="2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xit" presetID="3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837440" y="3611520"/>
            <a:ext cx="1312920" cy="1495080"/>
            <a:chOff x="1837440" y="3611520"/>
            <a:chExt cx="1312920" cy="1495080"/>
          </a:xfrm>
        </p:grpSpPr>
        <p:sp>
          <p:nvSpPr>
            <p:cNvPr id="314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7440" y="4677480"/>
              <a:ext cx="1312920" cy="429120"/>
            </a:xfrm>
            <a:prstGeom prst="rect">
              <a:avLst/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92240" y="3611520"/>
            <a:ext cx="1406160" cy="1495080"/>
            <a:chOff x="192240" y="3611520"/>
            <a:chExt cx="1406160" cy="1495080"/>
          </a:xfrm>
        </p:grpSpPr>
        <p:sp>
          <p:nvSpPr>
            <p:cNvPr id="317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2240" y="4677480"/>
              <a:ext cx="1406160" cy="429120"/>
            </a:xfrm>
            <a:prstGeom prst="rect">
              <a:avLst/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ressible operon: tryptopha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328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241280" y="3200400"/>
            <a:ext cx="1347840" cy="544680"/>
            <a:chOff x="1241280" y="3200400"/>
            <a:chExt cx="1347840" cy="544680"/>
          </a:xfrm>
        </p:grpSpPr>
        <p:sp>
          <p:nvSpPr>
            <p:cNvPr id="332" name=""/>
            <p:cNvSpPr/>
            <p:nvPr/>
          </p:nvSpPr>
          <p:spPr>
            <a:xfrm>
              <a:off x="1241280" y="3321000"/>
              <a:ext cx="381240" cy="304920"/>
            </a:xfrm>
            <a:prstGeom prst="hexagon">
              <a:avLst>
                <a:gd name="adj" fmla="val 31257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1472760" y="3200400"/>
              <a:ext cx="1116360" cy="544680"/>
              <a:chOff x="1472760" y="3200400"/>
              <a:chExt cx="1116360" cy="544680"/>
            </a:xfrm>
          </p:grpSpPr>
          <p:sp>
            <p:nvSpPr>
              <p:cNvPr id="334" name=""/>
              <p:cNvSpPr/>
              <p:nvPr/>
            </p:nvSpPr>
            <p:spPr>
              <a:xfrm>
                <a:off x="1535040" y="320040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72760" y="330336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5048280" y="4979160"/>
            <a:ext cx="1986120" cy="368280"/>
            <a:chOff x="5048280" y="4979160"/>
            <a:chExt cx="1986120" cy="368280"/>
          </a:xfrm>
        </p:grpSpPr>
        <p:sp>
          <p:nvSpPr>
            <p:cNvPr id="337" name=""/>
            <p:cNvSpPr/>
            <p:nvPr/>
          </p:nvSpPr>
          <p:spPr>
            <a:xfrm>
              <a:off x="5048280" y="5011560"/>
              <a:ext cx="380880" cy="304920"/>
            </a:xfrm>
            <a:prstGeom prst="hexagon">
              <a:avLst>
                <a:gd name="adj" fmla="val 31228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58840" y="497916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463640" y="4235400"/>
            <a:ext cx="3268440" cy="544680"/>
            <a:chOff x="4463640" y="4235400"/>
            <a:chExt cx="3268440" cy="544680"/>
          </a:xfrm>
        </p:grpSpPr>
        <p:grpSp>
          <p:nvGrpSpPr>
            <p:cNvPr id="340" name=""/>
            <p:cNvGrpSpPr/>
            <p:nvPr/>
          </p:nvGrpSpPr>
          <p:grpSpPr>
            <a:xfrm>
              <a:off x="4463640" y="4235400"/>
              <a:ext cx="1116360" cy="544680"/>
              <a:chOff x="4463640" y="4235400"/>
              <a:chExt cx="1116360" cy="544680"/>
            </a:xfrm>
          </p:grpSpPr>
          <p:sp>
            <p:nvSpPr>
              <p:cNvPr id="341" name=""/>
              <p:cNvSpPr/>
              <p:nvPr/>
            </p:nvSpPr>
            <p:spPr>
              <a:xfrm>
                <a:off x="4525920" y="423540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63640" y="433836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659920" y="432360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232160" y="5546160"/>
            <a:ext cx="4948200" cy="642600"/>
            <a:chOff x="4232160" y="5546160"/>
            <a:chExt cx="4948200" cy="642600"/>
          </a:xfrm>
        </p:grpSpPr>
        <p:grpSp>
          <p:nvGrpSpPr>
            <p:cNvPr id="345" name=""/>
            <p:cNvGrpSpPr/>
            <p:nvPr/>
          </p:nvGrpSpPr>
          <p:grpSpPr>
            <a:xfrm>
              <a:off x="4232160" y="5595840"/>
              <a:ext cx="1347840" cy="544320"/>
              <a:chOff x="4232160" y="5595840"/>
              <a:chExt cx="1347840" cy="544320"/>
            </a:xfrm>
          </p:grpSpPr>
          <p:sp>
            <p:nvSpPr>
              <p:cNvPr id="346" name=""/>
              <p:cNvSpPr/>
              <p:nvPr/>
            </p:nvSpPr>
            <p:spPr>
              <a:xfrm>
                <a:off x="4232160" y="5716080"/>
                <a:ext cx="381240" cy="304560"/>
              </a:xfrm>
              <a:prstGeom prst="hexagon">
                <a:avLst>
                  <a:gd name="adj" fmla="val 31294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4463640" y="5595840"/>
                <a:ext cx="1116360" cy="544320"/>
                <a:chOff x="4463640" y="5595840"/>
                <a:chExt cx="1116360" cy="5443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525920" y="5595840"/>
                  <a:ext cx="990720" cy="5443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463640" y="569808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0" name=""/>
            <p:cNvSpPr/>
            <p:nvPr/>
          </p:nvSpPr>
          <p:spPr>
            <a:xfrm>
              <a:off x="5659200" y="5546160"/>
              <a:ext cx="35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ryptophan – 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62160" y="1371600"/>
            <a:ext cx="4647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ynthesis pathway mod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excess tryptophan is present, binds to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ryp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bin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to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63680" indent="-23832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blocks (represses)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362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5667480" y="6140520"/>
            <a:ext cx="3247920" cy="642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746B-815E-4E96-B47B-9DF4D7AEF0CD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7" presetSubtype="2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yptophan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0" t="0" r="0" b="4639"/>
          <a:stretch/>
        </p:blipFill>
        <p:spPr>
          <a:xfrm>
            <a:off x="1103400" y="2316240"/>
            <a:ext cx="6933960" cy="3851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914400" y="1104480"/>
            <a:ext cx="79264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tryptophan is present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Don’t need to make tryptophan-building enzyme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6200" y="6277680"/>
            <a:ext cx="7119360" cy="4291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yptophan binds allosterically to regulatory prote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002F-EF06-4D28-9BB2-FF0A4824E2A9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153972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review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e-celled organism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produce by mito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inary fiss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pid grow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neration every ~20 minut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f116a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(100 million) colony overnight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minant form of life on Ear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credibly diver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943600" y="685800"/>
            <a:ext cx="2971800" cy="2652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D123-0E19-442E-9E4C-18CE6D67D38A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1837440" y="3611520"/>
            <a:ext cx="1312920" cy="1495080"/>
            <a:chOff x="1837440" y="3611520"/>
            <a:chExt cx="1312920" cy="1495080"/>
          </a:xfrm>
        </p:grpSpPr>
        <p:sp>
          <p:nvSpPr>
            <p:cNvPr id="372" name=""/>
            <p:cNvSpPr/>
            <p:nvPr/>
          </p:nvSpPr>
          <p:spPr>
            <a:xfrm>
              <a:off x="186696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7440" y="4677480"/>
              <a:ext cx="1312920" cy="429120"/>
            </a:xfrm>
            <a:prstGeom prst="rect">
              <a:avLst/>
            </a:prstGeom>
            <a:solidFill>
              <a:srgbClr val="ff4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2240" y="3611520"/>
            <a:ext cx="1406160" cy="1495080"/>
            <a:chOff x="192240" y="3611520"/>
            <a:chExt cx="1406160" cy="1495080"/>
          </a:xfrm>
        </p:grpSpPr>
        <p:sp>
          <p:nvSpPr>
            <p:cNvPr id="375" name=""/>
            <p:cNvSpPr/>
            <p:nvPr/>
          </p:nvSpPr>
          <p:spPr>
            <a:xfrm>
              <a:off x="762120" y="3611520"/>
              <a:ext cx="0" cy="114300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2240" y="4677480"/>
              <a:ext cx="1406160" cy="429120"/>
            </a:xfrm>
            <a:prstGeom prst="rect">
              <a:avLst/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52280" y="3382920"/>
            <a:ext cx="8915400" cy="2286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3382920"/>
            <a:ext cx="6629400" cy="22860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ducible operon: lactos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38292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29600" y="338292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3382920"/>
            <a:ext cx="304920" cy="228600"/>
          </a:xfrm>
          <a:prstGeom prst="rect">
            <a:avLst/>
          </a:prstGeom>
          <a:solidFill>
            <a:srgbClr val="ff4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66840" y="3305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9600" y="33058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04920" y="2971800"/>
            <a:ext cx="1523880" cy="990720"/>
            <a:chOff x="304920" y="2971800"/>
            <a:chExt cx="1523880" cy="990720"/>
          </a:xfrm>
        </p:grpSpPr>
        <p:sp>
          <p:nvSpPr>
            <p:cNvPr id="386" name=""/>
            <p:cNvSpPr/>
            <p:nvPr/>
          </p:nvSpPr>
          <p:spPr>
            <a:xfrm>
              <a:off x="304920" y="2971800"/>
              <a:ext cx="1523880" cy="9907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360" y="32007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463640" y="4219560"/>
            <a:ext cx="3268440" cy="544680"/>
            <a:chOff x="4463640" y="4219560"/>
            <a:chExt cx="3268440" cy="544680"/>
          </a:xfrm>
        </p:grpSpPr>
        <p:grpSp>
          <p:nvGrpSpPr>
            <p:cNvPr id="389" name=""/>
            <p:cNvGrpSpPr/>
            <p:nvPr/>
          </p:nvGrpSpPr>
          <p:grpSpPr>
            <a:xfrm>
              <a:off x="4463640" y="4219560"/>
              <a:ext cx="1116360" cy="544680"/>
              <a:chOff x="4463640" y="4219560"/>
              <a:chExt cx="1116360" cy="544680"/>
            </a:xfrm>
          </p:grpSpPr>
          <p:sp>
            <p:nvSpPr>
              <p:cNvPr id="390" name=""/>
              <p:cNvSpPr/>
              <p:nvPr/>
            </p:nvSpPr>
            <p:spPr>
              <a:xfrm>
                <a:off x="4525920" y="4219560"/>
                <a:ext cx="990720" cy="54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63640" y="4322520"/>
                <a:ext cx="11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5"/>
                    </a:solidFill>
                    <a:latin typeface="Arial"/>
                  </a:rPr>
                  <a:t>repress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5659920" y="430776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114800" y="5530320"/>
            <a:ext cx="4659120" cy="642600"/>
            <a:chOff x="4114800" y="5530320"/>
            <a:chExt cx="4659120" cy="642600"/>
          </a:xfrm>
        </p:grpSpPr>
        <p:grpSp>
          <p:nvGrpSpPr>
            <p:cNvPr id="394" name=""/>
            <p:cNvGrpSpPr/>
            <p:nvPr/>
          </p:nvGrpSpPr>
          <p:grpSpPr>
            <a:xfrm>
              <a:off x="4114800" y="5580000"/>
              <a:ext cx="1465200" cy="544680"/>
              <a:chOff x="4114800" y="5580000"/>
              <a:chExt cx="1465200" cy="544680"/>
            </a:xfrm>
          </p:grpSpPr>
          <p:sp>
            <p:nvSpPr>
              <p:cNvPr id="395" name=""/>
              <p:cNvSpPr/>
              <p:nvPr/>
            </p:nvSpPr>
            <p:spPr>
              <a:xfrm>
                <a:off x="4114800" y="5667480"/>
                <a:ext cx="457200" cy="380880"/>
              </a:xfrm>
              <a:prstGeom prst="hexagon">
                <a:avLst>
                  <a:gd name="adj" fmla="val 30009"/>
                  <a:gd name="vf" fmla="val 115470"/>
                </a:avLst>
              </a:prstGeom>
              <a:solidFill>
                <a:srgbClr val="ffea18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4463640" y="5580000"/>
                <a:ext cx="1116360" cy="544680"/>
                <a:chOff x="4463640" y="5580000"/>
                <a:chExt cx="1116360" cy="5446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525920" y="5580000"/>
                  <a:ext cx="990720" cy="544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63640" y="5682960"/>
                  <a:ext cx="111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5"/>
                      </a:solidFill>
                      <a:latin typeface="Arial"/>
                    </a:rPr>
                    <a:t>represso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5661000" y="5530320"/>
              <a:ext cx="31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 – repressor prote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952880" y="4973760"/>
            <a:ext cx="1674000" cy="380880"/>
            <a:chOff x="4952880" y="4973760"/>
            <a:chExt cx="1674000" cy="380880"/>
          </a:xfrm>
        </p:grpSpPr>
        <p:sp>
          <p:nvSpPr>
            <p:cNvPr id="401" name=""/>
            <p:cNvSpPr/>
            <p:nvPr/>
          </p:nvSpPr>
          <p:spPr>
            <a:xfrm>
              <a:off x="5659920" y="497916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lacto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52880" y="497376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066680" y="328788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415880" y="3200400"/>
            <a:ext cx="1116360" cy="544680"/>
            <a:chOff x="1415880" y="3200400"/>
            <a:chExt cx="1116360" cy="544680"/>
          </a:xfrm>
        </p:grpSpPr>
        <p:sp>
          <p:nvSpPr>
            <p:cNvPr id="405" name=""/>
            <p:cNvSpPr/>
            <p:nvPr/>
          </p:nvSpPr>
          <p:spPr>
            <a:xfrm>
              <a:off x="1477800" y="3200400"/>
              <a:ext cx="990360" cy="544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15880" y="33033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5"/>
                  </a:solidFill>
                  <a:latin typeface="Arial"/>
                </a:rPr>
                <a:t>repress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0942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3260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706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09040" y="3290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338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22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103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3276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962160" y="1371600"/>
            <a:ext cx="4647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gestive pathway mode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lactose is present, binds to </a:t>
            </a:r>
            <a:br>
              <a:rPr sz="2000"/>
            </a:b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lac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repressor protein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triggers repressor to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DN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463680" indent="-23832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nduces transcription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0" y="1676520"/>
            <a:ext cx="1523880" cy="990360"/>
            <a:chOff x="0" y="1676520"/>
            <a:chExt cx="1523880" cy="990360"/>
          </a:xfrm>
        </p:grpSpPr>
        <p:sp>
          <p:nvSpPr>
            <p:cNvPr id="418" name=""/>
            <p:cNvSpPr/>
            <p:nvPr/>
          </p:nvSpPr>
          <p:spPr>
            <a:xfrm>
              <a:off x="0" y="1676520"/>
              <a:ext cx="1523880" cy="990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440" y="190512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85800" y="2743200"/>
            <a:ext cx="1219320" cy="380880"/>
          </a:xfrm>
          <a:custGeom>
            <a:avLst/>
            <a:gdLst>
              <a:gd name="textAreaLeft" fmla="*/ 226440 w 1219320"/>
              <a:gd name="textAreaRight" fmla="*/ 870840 w 12193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-2785630"/>
                <a:lnTo>
                  <a:pt x="21141" y="7200"/>
                </a:lnTo>
                <a:lnTo>
                  <a:pt x="17747" y="0"/>
                </a:lnTo>
                <a:lnTo>
                  <a:pt x="13435" y="7200"/>
                </a:lnTo>
                <a:lnTo>
                  <a:pt x="15595" y="7200"/>
                </a:lnTo>
                <a:arcTo wR="8027" hR="21600" stAng="2614370" swAng="2510569"/>
                <a:lnTo>
                  <a:pt x="9720" y="21114"/>
                </a:lnTo>
                <a:arcTo wR="8027" hR="21600" stAng="5675062" swAng="5124938"/>
                <a:close/>
              </a:path>
              <a:path fill="darkenLess" w="21600" h="21600">
                <a:moveTo>
                  <a:pt x="0" y="0"/>
                </a:moveTo>
                <a:arcTo wR="8027" hR="21600" stAng="10800000" swAng="-5400000"/>
                <a:lnTo>
                  <a:pt x="11413" y="21600"/>
                </a:lnTo>
                <a:arcTo wR="8027" hR="21600" stAng="5400000" swAng="275062"/>
                <a:lnTo>
                  <a:pt x="9720" y="21114"/>
                </a:lnTo>
                <a:arcTo wR="8027" hR="21600" stAng="5675062" swAng="5124938"/>
                <a:close/>
              </a:path>
            </a:pathLst>
          </a:custGeom>
          <a:solidFill>
            <a:srgbClr val="ff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667480" y="6140520"/>
            <a:ext cx="3247920" cy="642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onformational change in repressor protein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0702-9BED-4310-A06E-67A473A6D8F0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xit" presetID="7" presetSubtype="2" repeatCount="indefinite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ose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rcRect l="0" t="0" r="0" b="6161"/>
          <a:stretch/>
        </p:blipFill>
        <p:spPr>
          <a:xfrm>
            <a:off x="380880" y="2192400"/>
            <a:ext cx="8763120" cy="3751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914400" y="128412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happens when lactose is present?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Need to make lactose-digesting enzyme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30760" y="6049080"/>
            <a:ext cx="6639480" cy="4291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actose binds allosterically to regulatory prote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2F90-B9C5-4304-BA77-94FBE211857F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Jacob &amp; Monod: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lac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Oper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ancois Jacob &amp; Jacques Mono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irst to describe operon sy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ined the phrase “operon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08520" y="38016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65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311880" y="2971800"/>
            <a:ext cx="2755800" cy="34923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745080" y="2971800"/>
            <a:ext cx="2503440" cy="3809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6630840" y="6429960"/>
            <a:ext cx="22305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Francois Jacob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54880" y="6429960"/>
            <a:ext cx="2291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Jacques Monod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peron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pressible operon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n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ynthesiz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end product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when end product is present in excess,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ell allocates resources to other use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ducible operon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usually functions i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pathways,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digesting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nutrients to simpler molecul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duce enzymes only when nutrient is availab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ell avoids making proteins that have nothing to do, cell allocates resources to other us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752480" cy="1563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56DD-537F-48B8-A182-4C26347EDF36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0439-C087-4496-A708-984673C7D288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ed Sang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3586320" cy="23749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046240" cy="2895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2046240" cy="28954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829520" y="4570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95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7920" y="4570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98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9961-B293-4B13-B213-E4C30B8A0ADF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divers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0280" y="2232000"/>
            <a:ext cx="8308800" cy="4473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2119320"/>
            <a:ext cx="304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5720" y="1370880"/>
            <a:ext cx="724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ods and spheres and spirals… Oh My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divers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5130720" cy="157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80920" y="29707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Borrelia burgdorfe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yme disea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31880" y="2970720"/>
            <a:ext cx="266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reponema pallidu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yphilli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8280" y="6078960"/>
            <a:ext cx="3221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Escherichia coli O157:H7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emorrhagic E. col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10200" y="4114800"/>
            <a:ext cx="2411280" cy="1928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77280" y="6018840"/>
            <a:ext cx="289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Enterococcus faeciu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kin infect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57320" y="3886200"/>
            <a:ext cx="2743200" cy="2155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8250-1301-4F20-BEFC-B02262F503BA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3720"/>
            <a:ext cx="11125080" cy="601956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b2b2b2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cterial genom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ngle circular chromoso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aplo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aked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histone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4 million base pai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~4300 ge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/1000 DNA in eukaryot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 rot="2695200">
            <a:off x="5528520" y="3836880"/>
            <a:ext cx="3767040" cy="2182680"/>
          </a:xfrm>
          <a:custGeom>
            <a:avLst/>
            <a:gdLst/>
            <a:ahLst/>
            <a:rect l="l" t="t" r="r" b="b"/>
            <a:pathLst>
              <a:path w="2373" h="1375">
                <a:moveTo>
                  <a:pt x="759" y="77"/>
                </a:moveTo>
                <a:cubicBezTo>
                  <a:pt x="596" y="71"/>
                  <a:pt x="471" y="61"/>
                  <a:pt x="310" y="77"/>
                </a:cubicBezTo>
                <a:cubicBezTo>
                  <a:pt x="286" y="79"/>
                  <a:pt x="267" y="96"/>
                  <a:pt x="245" y="102"/>
                </a:cubicBezTo>
                <a:cubicBezTo>
                  <a:pt x="223" y="107"/>
                  <a:pt x="179" y="118"/>
                  <a:pt x="179" y="118"/>
                </a:cubicBezTo>
                <a:cubicBezTo>
                  <a:pt x="157" y="183"/>
                  <a:pt x="189" y="108"/>
                  <a:pt x="147" y="151"/>
                </a:cubicBezTo>
                <a:cubicBezTo>
                  <a:pt x="123" y="174"/>
                  <a:pt x="105" y="203"/>
                  <a:pt x="90" y="233"/>
                </a:cubicBezTo>
                <a:cubicBezTo>
                  <a:pt x="76" y="258"/>
                  <a:pt x="59" y="286"/>
                  <a:pt x="49" y="314"/>
                </a:cubicBezTo>
                <a:cubicBezTo>
                  <a:pt x="27" y="372"/>
                  <a:pt x="18" y="434"/>
                  <a:pt x="0" y="494"/>
                </a:cubicBezTo>
                <a:cubicBezTo>
                  <a:pt x="2" y="540"/>
                  <a:pt x="3" y="586"/>
                  <a:pt x="8" y="633"/>
                </a:cubicBezTo>
                <a:cubicBezTo>
                  <a:pt x="15" y="708"/>
                  <a:pt x="64" y="784"/>
                  <a:pt x="106" y="845"/>
                </a:cubicBezTo>
                <a:cubicBezTo>
                  <a:pt x="133" y="884"/>
                  <a:pt x="158" y="928"/>
                  <a:pt x="188" y="967"/>
                </a:cubicBezTo>
                <a:cubicBezTo>
                  <a:pt x="273" y="1077"/>
                  <a:pt x="385" y="1156"/>
                  <a:pt x="498" y="1237"/>
                </a:cubicBezTo>
                <a:cubicBezTo>
                  <a:pt x="603" y="1312"/>
                  <a:pt x="453" y="1218"/>
                  <a:pt x="620" y="1302"/>
                </a:cubicBezTo>
                <a:cubicBezTo>
                  <a:pt x="689" y="1336"/>
                  <a:pt x="736" y="1363"/>
                  <a:pt x="816" y="1375"/>
                </a:cubicBezTo>
                <a:cubicBezTo>
                  <a:pt x="865" y="1372"/>
                  <a:pt x="914" y="1375"/>
                  <a:pt x="963" y="1367"/>
                </a:cubicBezTo>
                <a:cubicBezTo>
                  <a:pt x="1010" y="1358"/>
                  <a:pt x="1064" y="1319"/>
                  <a:pt x="1110" y="1302"/>
                </a:cubicBezTo>
                <a:cubicBezTo>
                  <a:pt x="1208" y="1263"/>
                  <a:pt x="1322" y="1223"/>
                  <a:pt x="1428" y="1212"/>
                </a:cubicBezTo>
                <a:cubicBezTo>
                  <a:pt x="1641" y="1188"/>
                  <a:pt x="1835" y="1183"/>
                  <a:pt x="2057" y="1179"/>
                </a:cubicBezTo>
                <a:cubicBezTo>
                  <a:pt x="2087" y="1164"/>
                  <a:pt x="2115" y="1157"/>
                  <a:pt x="2147" y="1147"/>
                </a:cubicBezTo>
                <a:cubicBezTo>
                  <a:pt x="2164" y="1134"/>
                  <a:pt x="2187" y="1128"/>
                  <a:pt x="2204" y="1114"/>
                </a:cubicBezTo>
                <a:cubicBezTo>
                  <a:pt x="2225" y="1095"/>
                  <a:pt x="2240" y="1068"/>
                  <a:pt x="2261" y="1049"/>
                </a:cubicBezTo>
                <a:cubicBezTo>
                  <a:pt x="2278" y="995"/>
                  <a:pt x="2254" y="1054"/>
                  <a:pt x="2302" y="992"/>
                </a:cubicBezTo>
                <a:cubicBezTo>
                  <a:pt x="2315" y="974"/>
                  <a:pt x="2321" y="953"/>
                  <a:pt x="2334" y="935"/>
                </a:cubicBezTo>
                <a:cubicBezTo>
                  <a:pt x="2343" y="901"/>
                  <a:pt x="2347" y="873"/>
                  <a:pt x="2367" y="845"/>
                </a:cubicBezTo>
                <a:cubicBezTo>
                  <a:pt x="2361" y="758"/>
                  <a:pt x="2373" y="731"/>
                  <a:pt x="2334" y="673"/>
                </a:cubicBezTo>
                <a:cubicBezTo>
                  <a:pt x="2320" y="631"/>
                  <a:pt x="2299" y="589"/>
                  <a:pt x="2269" y="559"/>
                </a:cubicBezTo>
                <a:cubicBezTo>
                  <a:pt x="2252" y="517"/>
                  <a:pt x="2237" y="504"/>
                  <a:pt x="2212" y="469"/>
                </a:cubicBezTo>
                <a:cubicBezTo>
                  <a:pt x="2189" y="401"/>
                  <a:pt x="2120" y="369"/>
                  <a:pt x="2073" y="322"/>
                </a:cubicBezTo>
                <a:cubicBezTo>
                  <a:pt x="2066" y="315"/>
                  <a:pt x="2064" y="304"/>
                  <a:pt x="2057" y="298"/>
                </a:cubicBezTo>
                <a:cubicBezTo>
                  <a:pt x="2047" y="290"/>
                  <a:pt x="2034" y="288"/>
                  <a:pt x="2024" y="282"/>
                </a:cubicBezTo>
                <a:cubicBezTo>
                  <a:pt x="1995" y="264"/>
                  <a:pt x="1972" y="238"/>
                  <a:pt x="1943" y="224"/>
                </a:cubicBezTo>
                <a:cubicBezTo>
                  <a:pt x="1877" y="190"/>
                  <a:pt x="1799" y="183"/>
                  <a:pt x="1730" y="167"/>
                </a:cubicBezTo>
                <a:cubicBezTo>
                  <a:pt x="1713" y="156"/>
                  <a:pt x="1694" y="149"/>
                  <a:pt x="1681" y="135"/>
                </a:cubicBezTo>
                <a:cubicBezTo>
                  <a:pt x="1669" y="122"/>
                  <a:pt x="1662" y="104"/>
                  <a:pt x="1649" y="94"/>
                </a:cubicBezTo>
                <a:cubicBezTo>
                  <a:pt x="1626" y="76"/>
                  <a:pt x="1594" y="81"/>
                  <a:pt x="1567" y="77"/>
                </a:cubicBezTo>
                <a:cubicBezTo>
                  <a:pt x="1516" y="0"/>
                  <a:pt x="1379" y="42"/>
                  <a:pt x="1314" y="45"/>
                </a:cubicBezTo>
                <a:cubicBezTo>
                  <a:pt x="1303" y="47"/>
                  <a:pt x="1291" y="48"/>
                  <a:pt x="1281" y="53"/>
                </a:cubicBezTo>
                <a:cubicBezTo>
                  <a:pt x="1272" y="56"/>
                  <a:pt x="1266" y="66"/>
                  <a:pt x="1257" y="69"/>
                </a:cubicBezTo>
                <a:cubicBezTo>
                  <a:pt x="1227" y="77"/>
                  <a:pt x="1196" y="77"/>
                  <a:pt x="1167" y="86"/>
                </a:cubicBezTo>
                <a:cubicBezTo>
                  <a:pt x="1031" y="78"/>
                  <a:pt x="894" y="62"/>
                  <a:pt x="759" y="77"/>
                </a:cubicBezTo>
                <a:close/>
              </a:path>
            </a:pathLst>
          </a:custGeom>
          <a:noFill/>
          <a:ln w="12708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880" y="6247440"/>
            <a:ext cx="2901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Intro to Bacteria vide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E98A-DC39-4ECA-BABC-FEF914C4A906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3719520"/>
            <a:ext cx="4647960" cy="30621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o nucleus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nuclear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hromosome in cytoplas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cription &amp; translation are coupled togeth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processing of mRN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 intr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ut Central Dogma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ill appl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se sam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enetic cod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1AC-C10E-4283-919E-67211B648C80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inary fis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54480" y="762120"/>
            <a:ext cx="4737240" cy="5943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plication of bacterial chromosom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sexual reproduc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ffspring genetically identical to par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here does variation come from?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C650-37B4-4572-AC23-CB24BBD7DACA}" type="slidenum">
              <a:rPr b="0" lang="en-US" sz="10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riation in bacteri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0000"/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urces of vari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ontaneous mut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form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smi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60000"/>
              <a:buFont typeface="Zapf 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 fragm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du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juga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s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89440" y="1828800"/>
            <a:ext cx="3454560" cy="5029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06720" y="188820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acteria shedding D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9:41:46Z</dcterms:created>
  <dc:creator>Justin</dc:creator>
  <dc:description>All Rights Reserved. Copyright 2003. WD Interactive.</dc:description>
  <cp:keywords>Education Biology Zone Kim Foglia</cp:keywords>
  <dc:language>en-US</dc:language>
  <cp:lastModifiedBy> </cp:lastModifiedBy>
  <cp:lastPrinted>2006-03-07T06:09:16Z</cp:lastPrinted>
  <dcterms:modified xsi:type="dcterms:W3CDTF">2006-12-10T21:58:33Z</dcterms:modified>
  <cp:revision>33</cp:revision>
  <dc:subject>AP &amp; Regents Biology</dc:subject>
  <dc:title>Chapter  18.</dc:title>
</cp:coreProperties>
</file>